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0080625" cy="7559675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7102440" cy="9388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9388440"/>
              <a:gd name="textAreaBottom" fmla="*/ 9388080 h 9388440"/>
            </a:gdLst>
            <a:ahLst/>
            <a:rect l="textAreaLeft" t="textAreaTop" r="textAreaRight" b="textAreaBottom"/>
            <a:pathLst>
              <a:path w="21600" h="28552">
                <a:moveTo>
                  <a:pt x="4" y="0"/>
                </a:moveTo>
                <a:arcTo wR="4" hR="4" stAng="16200000" swAng="-5400000"/>
                <a:lnTo>
                  <a:pt x="0" y="28548"/>
                </a:lnTo>
                <a:arcTo wR="4" hR="4" stAng="10800000" swAng="-5400000"/>
                <a:lnTo>
                  <a:pt x="21596" y="285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03480" y="712800"/>
            <a:ext cx="46908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459320"/>
            <a:ext cx="56800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dt" idx="37"/>
          </p:nvPr>
        </p:nvSpPr>
        <p:spPr>
          <a:xfrm>
            <a:off x="4019040" y="-360"/>
            <a:ext cx="3079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4019040" y="8919720"/>
            <a:ext cx="30798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01760"/>
                <a:tab algn="l" pos="803160"/>
                <a:tab algn="l" pos="1206360"/>
                <a:tab algn="l" pos="1609560"/>
                <a:tab algn="l" pos="2008080"/>
                <a:tab algn="l" pos="2413080"/>
                <a:tab algn="l" pos="2816280"/>
                <a:tab algn="l" pos="3218040"/>
                <a:tab algn="l" pos="3621240"/>
                <a:tab algn="l" pos="4024440"/>
                <a:tab algn="l" pos="4425840"/>
                <a:tab algn="l" pos="4827600"/>
                <a:tab algn="l" pos="5232240"/>
                <a:tab algn="l" pos="5634000"/>
                <a:tab algn="l" pos="6033960"/>
                <a:tab algn="l" pos="6438960"/>
                <a:tab algn="l" pos="6840360"/>
                <a:tab algn="l" pos="7242120"/>
                <a:tab algn="l" pos="7645320"/>
                <a:tab algn="l" pos="804852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fld id="{998B9DB0-8915-4DDD-B0E5-4FDB3EE047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1039680" y="712800"/>
            <a:ext cx="5021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18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039680" y="714240"/>
            <a:ext cx="502128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709200" y="4458960"/>
            <a:ext cx="5681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139-DA41-4BFD-9202-E5863ADD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483-E05F-4C76-96A0-6EB92C4A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13503-54ED-414E-AA7E-6BF0706A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3AFEF-E703-4CC9-9455-5BE59238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90FB4-F2A8-42C3-BD41-942EE631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17E3E-830E-4E9A-B318-EADE7C89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66B75-63BF-4FB0-9E49-0CD427D2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0D1AA-456F-421E-8287-7E3E430B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6FEE7-7A0A-4380-B9E6-E61DB614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C4B1D-F07F-4F77-BEEF-4C84A7EA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D7419-B975-4C0F-B5D4-21AE279E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0DB5A-CEB1-426A-9AE9-DAC20CAF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2C4-C5E6-42FB-B84A-89E397B4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EB93C-325B-4D30-8125-5FB7032D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5FD57-D158-4390-8BCA-408E8DDF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09EBB-4930-457C-AE41-A769CE0F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36220-4588-4890-82D7-C5469B5A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2DAA4-27B7-4AC5-A7DB-19DF089A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7DC6A-ECB1-40E3-92B3-FF163E7F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A9D95-4E44-4F72-87D2-1C3E2C85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B60FB-B7AC-4788-98F3-1DB61715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2AE74-60AF-4E70-AAB4-D0B6E1AA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3FBA0-F65A-44FD-BCFB-6E8F481E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F1E-6960-427C-81F3-BFD8907C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59DDD-B9A3-4389-985A-2B0DA2A7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4DD38-10AC-4948-AC11-304442E6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78189-41C6-4722-81FC-B6BAAB7D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251CD-D032-4EA6-8162-4FDEA0A8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B8FB7-105C-4292-B541-1D4DDB33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7CDFC-A510-4662-A386-269E4739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FCF5D-E323-49D6-8FC3-2DA6842C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891C4-BD44-4714-9571-978A355B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2E27D-8F1D-4730-94D2-9E27BBA2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47945-FE7E-4BA3-B04E-877178B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3423-CB10-47D4-A794-209C5F3A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BF1D8-48EB-4A25-B63B-BAC1AC39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587FC-7AA2-4AD1-A86A-583E7F18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BD931-758D-4FBF-A9A5-7EEA9CD3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9E21B-0F56-4AAF-843D-3AEDF6D4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5175A-7C52-4998-833A-CCB9D122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DA397-72A6-4067-93AF-912F1CE4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D5A3F-F424-4119-B636-C69E0CAF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DC051-C008-4F8D-B9A3-FB8A4329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51FE4-5C03-4B5F-B73A-8E020834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0BF84-83AE-4132-9FF2-7083BCF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D634-FDD4-4A3C-B99F-3D3BDAAE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B40BE-84AD-4176-8658-90A47950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7B5D5-8F24-4F2F-9F72-D61F0BF4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35AFD-9D15-434C-887F-6E645606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4F5BA-D500-4EAC-8177-9E165AFC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1CB84-64F3-4EB9-A44D-6724E4CD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C575-D2B7-4FEE-899D-B7078632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F1D0-83D4-45DC-8760-4144C221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CFB2-A90C-45EE-8E9F-E08826ED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EE89-B9D7-4CEB-BBEC-5E8A0A4F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2AA7-E33D-480E-BF4E-A59C8D70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FA6-2B74-4839-B318-1871B2BE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DDA2-365C-4E24-822A-92059069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C66A-989F-49E5-B245-591813BB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22E0-DCE4-4BF9-A0BA-6BDB28DB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6098-D906-4202-A368-EA55FAE9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E0BA-9F14-49F8-A0B5-2E5C1C77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6475-95AE-4D0C-97DF-ECAD4E98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E27E-AE5F-41AC-86C4-71335F64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278B1-0D36-4CF5-A61B-C9487D2F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81365-5E77-4524-AC89-6885B138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003B0-7B47-4E15-BD6E-C4A9B3FC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85A-2EEB-40C6-A16F-1B672BE3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7145-97F3-471B-A732-9221B3D5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5D8B7-59DA-4236-9626-BE0F5328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C82A5-2AB5-434C-AF62-18D66902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03CC-9BC3-4E55-B213-F8760A7A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F411E-B92C-4F1F-84EC-519F274F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A494-5D93-476B-831E-D0F19248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FC9EF-DB55-4C8E-89F3-695A938F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43328-A9C1-4043-B6E3-D2550389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2AB5A-9174-405B-ACCD-207DF48A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99148-317E-4EA1-8BF4-1AD31D9B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AD4-E8EF-4FE5-9FDE-A68486D9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BE8E-306D-434A-8D38-9D578E05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E00BA-E5C5-40D7-85FC-6400EEFD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11B71-CA7D-46DC-A719-DE1FA325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F0A31-9AAA-46DB-B670-0912B154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0AF86-E9FF-4595-B815-409C45B6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6BBB-1CB5-446A-9035-4C5E6BC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48552-FB00-4EB8-9DBB-3E3B211C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D1BBD-B781-4F82-A8EC-84606F27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2069B-3FBE-4EEB-B395-170193F0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BCE29-6372-4211-8E23-1A5168D4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800-8DA5-49A4-8125-8D34580A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78A4E-FDFD-41EF-BC60-3E74A638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3E8DF-E947-4A4F-BBE0-7AD30C0C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96E69-663E-4B4F-BE43-8BF1801F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F0C01-9059-4BE9-8C64-8D95FDBA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FAB39-A65E-4DD5-B37E-472262B7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A1A54-6377-4CF7-A3ED-4676D773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3338E-E64C-4174-B85E-AD1408D2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DCC92-3232-4007-A1C4-B14E18AA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30960-2DA9-42FC-835D-A57FF467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50F80-404A-4A3D-A847-C98A4590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7BF-0ABF-4A9F-B070-D0D938C2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FD552-E4C5-492D-B12A-E0B2F54F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7EAF3-26CC-4966-9676-535CCA37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D27C9-2D3E-4CAD-9D5D-BCA7A7CE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9654D-3735-45FA-918B-1A5DA6ED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F7D4C-8D8F-4717-A813-37AE59A1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F5636-0E3C-4D96-A372-489A0499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DB54A-63AD-4AD7-ACD8-D020535D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740E-2157-4785-AEBA-8E29ECF2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66986-AA9F-4157-9651-C79998F7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A6D89-F48D-465D-916B-4CD0A4E8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F3B-2601-405C-A7FB-1086D0C1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8AE37-F7D5-472A-93C9-0A251F05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C3369-3CCC-4437-AED6-A2E8830E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DC5F3-7A24-4120-B322-21B7D62B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5D397-89E4-4F76-B456-C4DA1FB4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08491-00D0-41D0-BAE0-935E3CBC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B095C-BB2E-4D61-9E59-7BD9AF09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4841D-3DE4-467B-A573-01AA6A2B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02E73-86A5-4177-9F9E-589F3272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EC91A-7BE3-4A25-AB30-CCCF4E69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E6E2C-5865-4C4C-A611-A04332CF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4DA-5E67-4244-8362-E6D0A47F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4E7E2-9FA7-4883-AF15-555626AC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CA75A-DF47-4CA4-98DB-E3AFE06A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95008-5C3D-4865-8500-54C174E9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5B3FA-2E72-44F8-AB7C-61E6D747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660D7-5FC4-4252-8A7C-E20C39F7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D9A48-6033-432B-B15C-1FCE7ADC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3AD5B-5142-47E6-A13E-366E5E39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8079A-1754-413D-9000-AD4D0A1B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ED543-BC65-41D2-AD9F-92852F7E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ECBD0-A772-49EA-9466-5C402343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F67-2B61-4C29-B012-02091EDE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61981-081F-4CC2-B242-A1F6E1FA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9DB40-026F-436E-B1FC-5916D215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3F4BA-7B63-41FA-911F-27B70FB2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B8A6F-4734-4915-A0E3-222BCF68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8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A9A01-A71D-44CA-B4EE-EED05069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4044A-502E-438A-9C09-F6F81376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24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4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24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32C70-2AC7-44D8-AA1D-45189D04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F8074-2ADB-4C33-B7D1-4242FDE9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0160C-347D-46E5-B506-54BD99F5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4817A-5315-4501-A4F3-E073424A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90E754-36BC-43EB-974A-6833F3526B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124E5E-77DC-4F18-935F-14B1CC4ABA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DC3236-65A9-47B7-9EF5-BA1EF2591E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493C0E-5367-47FB-AE60-EC564D0D5C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9B6304-1CD7-4228-BD6F-F832D63730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D2200E-2D43-41A2-8CD5-F9C95AAF2D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DA5BEC-99CF-456F-89A0-1F571DEB31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61A0AC-359A-436F-85C0-8E08CA9B32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FD31DD-3833-4E09-99DD-F94633B3EA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33C897-B654-46C5-AB0C-9068A8494F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355B97-855F-41C4-90EC-D07465F755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92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4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2C5447-74DF-40C1-844D-E2C4F6531B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051720" y="2065320"/>
            <a:ext cx="401652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Here I Am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4160"/>
                <a:tab algn="l" pos="6288120"/>
                <a:tab algn="l" pos="6737400"/>
                <a:tab algn="l" pos="7184880"/>
                <a:tab algn="l" pos="7629480"/>
                <a:tab algn="l" pos="808524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Verdana"/>
              </a:rPr>
              <a:t>To Worship</a:t>
            </a:r>
            <a:endParaRPr b="1" lang="en-US" sz="54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468360" y="92160"/>
            <a:ext cx="906768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Light of the worl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You stepped down into darkness.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Opened my eyes, let me see.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Beauty that made this heart adore You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ope of a life spent with You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468360" y="1874880"/>
            <a:ext cx="90676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worship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say that You're my Go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You're altogether lovely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rthy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nderful to me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468360" y="92160"/>
            <a:ext cx="90676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King of all days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oh, so highly exalte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Glorious in heaven above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umbly You came 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o the earth You create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for love's sake became poor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468360" y="1874880"/>
            <a:ext cx="90676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worship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say that You're my Go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You're altogether lovely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rthy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nderful to me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468360" y="1824120"/>
            <a:ext cx="906768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'll never know how much it cost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'll never know how much it cost 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'll never know how much it cost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'll never know how much it cost 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468360" y="92160"/>
            <a:ext cx="90676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worship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say that You're my Go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You're altogether lovely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rthy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nderful to me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468360" y="849240"/>
            <a:ext cx="90676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worship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Here I am to say that You're my God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You're altogether lovely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rthy,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ll together wonderful to me</a:t>
            </a: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1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Flowers</dc:creator>
  <dc:description/>
  <dc:language>en-US</dc:language>
  <cp:lastModifiedBy>Peter</cp:lastModifiedBy>
  <dcterms:modified xsi:type="dcterms:W3CDTF">2011-01-19T06:39:17Z</dcterms:modified>
  <cp:revision>1901</cp:revision>
  <dc:subject/>
  <dc:title>Slide 1</dc:title>
</cp:coreProperties>
</file>